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0D4-67F8-4258-87BD-F21B48ED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081-2DF1-45BF-AB6C-23E3A6A7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CBC-9DDE-49F6-8DE0-4826EECB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88F-87C8-4AC0-BE37-A0E0EF3C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F29-F005-42B3-B87A-D4BCEF66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C137-E8A3-4FA7-8E0A-C6CA4F90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2429-2FA7-40FA-A540-B11320DB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1E7E-F8C0-4DCE-8C2C-A096811E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77D3-233C-491A-812A-087F062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66E1-E257-448D-A55A-94773023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9984-8C73-4235-AF93-543BE2E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DBB-8F0D-4689-B326-A626554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998-6020-4354-9950-9A8937B7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2614-511C-4C41-8952-F6B19FD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B780-AC99-4134-A873-76DF60E4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F823-34A7-4488-98E0-23223E0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4252-0889-4A06-90CF-A53D6113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97D-127D-431E-99DE-AA52931D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096-3A1D-4D77-B1BB-04AD455D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E6B-45A2-4C13-B75F-C209E022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405-1B67-4472-ACC9-7B7FD4D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039-EB11-4ADB-ACA8-D97450C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365-E291-479E-953B-A42DFAE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200-02AB-4C9B-953B-1B207671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E3CC-B1FB-4F79-9EFA-993F123591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071-35A1-4EC6-A100-FC76838069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Independent and dependent clauses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related group of words with a subject and predicate is called a clau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clause that </a:t>
            </a:r>
            <a:r>
              <a:rPr b="0" lang="en-US" sz="3500" spc="-1" strike="noStrike">
                <a:solidFill>
                  <a:srgbClr val="66ffff"/>
                </a:solidFill>
                <a:latin typeface="Arial"/>
              </a:rPr>
              <a:t>makes sens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by itself is an </a:t>
            </a:r>
            <a:r>
              <a:rPr b="0" lang="en-US" sz="3500" spc="-1" strike="noStrike">
                <a:solidFill>
                  <a:srgbClr val="99ff33"/>
                </a:solidFill>
                <a:latin typeface="Arial"/>
              </a:rPr>
              <a:t>independent clau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clause that </a:t>
            </a:r>
            <a:r>
              <a:rPr b="0" lang="en-US" sz="3500" spc="-1" strike="noStrike">
                <a:solidFill>
                  <a:srgbClr val="66ffff"/>
                </a:solidFill>
                <a:latin typeface="Arial"/>
              </a:rPr>
              <a:t>does not make sens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by itself is a </a:t>
            </a:r>
            <a:r>
              <a:rPr b="0" lang="en-US" sz="3500" spc="-1" strike="noStrike">
                <a:solidFill>
                  <a:srgbClr val="99ff33"/>
                </a:solidFill>
                <a:latin typeface="Arial"/>
              </a:rPr>
              <a:t>dependent clau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 complex sentence contains an independent and dependent clau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9ff33"/>
                </a:solidFill>
                <a:uFillTx/>
                <a:latin typeface="Arial"/>
              </a:rPr>
              <a:t>Independent claus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Native Americans lived on the island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until they were attack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66ffff"/>
                </a:solidFill>
                <a:latin typeface="Arial"/>
              </a:rPr>
              <a:t>Dependent claus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438280"/>
            <a:ext cx="1905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95680" y="4267080"/>
            <a:ext cx="9144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for independent or dependent clau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  if you live on an island_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  the tides affect your life_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.  the water level rises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.  when the tide comes in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5.  much of the beach disappears under water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6.  until the tide goes out_____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3:25:05Z</dcterms:created>
  <dc:creator>Valued Customer</dc:creator>
  <dc:description/>
  <dc:language>en-US</dc:language>
  <cp:lastModifiedBy>Valued Customer</cp:lastModifiedBy>
  <dcterms:modified xsi:type="dcterms:W3CDTF">2007-09-04T15:53:40Z</dcterms:modified>
  <cp:revision>2</cp:revision>
  <dc:subject/>
  <dc:title>Independent and dependent clauses.</dc:title>
</cp:coreProperties>
</file>